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D9E-5D3D-48E7-A8C7-D379B743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487-DAEC-41A0-B57D-C18099E7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CB9-B98D-4072-9BA8-1F146A88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91D-057D-46FA-AA39-7C9A68AE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947-6E9C-486E-95E7-C8EC1B98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40A-CC30-497A-9152-CD6955E1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039-E2E4-4B83-AF83-BDE4F494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71F-A28E-4D51-A6FE-457F4C8E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664-2A2A-41B2-A6EC-F05A921A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9E6-66E3-4B8C-8983-D39484A4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A78-45B9-4912-8FBA-DBFC1735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7A2-CEC0-43E6-88D0-50DF3399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72B3-D416-4F68-8EAB-3CA9B8584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060640"/>
            <a:ext cx="792468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esson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ednesday 16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Sept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413000"/>
            <a:ext cx="86868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otivation can be internal or external and is important wh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in poor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when ti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when practice is repet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447920"/>
            <a:ext cx="8686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ask 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omplete page 10 of your course n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ime – 5 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838080"/>
            <a:ext cx="86868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vels of Arou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Between Arousal 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248520" cy="3532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5943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at can affect levels of arous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Homework T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268280"/>
            <a:ext cx="845820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1. Complete the coaches challe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2. Complete the match analysis schedules on page 15 in your course no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3. Complete the top question on page 16 of your course notes (not the sample questions, the one above th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Due date – Wednesday 23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Comic Sans MS"/>
              </a:rPr>
              <a:t>rd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 Sept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349360"/>
            <a:ext cx="86421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end of today’s lesson you  should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pret the results of a match analysis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cribe and explain 2 aspects of mental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analysing all fitness tests set priorities for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itial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060640"/>
            <a:ext cx="8424720" cy="34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mpete the match analysis schedul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ime – 10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349360"/>
            <a:ext cx="86421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end of today’s lesson you  should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pret the results of a match analysis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cribe and explain 2 aspects of mental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analysing all fitness tests set priorities for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Schedule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1773360"/>
          <a:ext cx="7772400" cy="4635360"/>
        </p:xfrm>
        <a:graphic>
          <a:graphicData uri="http://schemas.openxmlformats.org/drawingml/2006/table">
            <a:tbl>
              <a:tblPr/>
              <a:tblGrid>
                <a:gridCol w="1149480"/>
                <a:gridCol w="1172880"/>
                <a:gridCol w="1398600"/>
                <a:gridCol w="1400400"/>
                <a:gridCol w="1398600"/>
                <a:gridCol w="1252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Time (mi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Standing St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Wal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Jogg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Mid-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Sprin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0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10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20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30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40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50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60-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Schedule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772400" cy="4610160"/>
        </p:xfrm>
        <a:graphic>
          <a:graphicData uri="http://schemas.openxmlformats.org/drawingml/2006/table">
            <a:tbl>
              <a:tblPr/>
              <a:tblGrid>
                <a:gridCol w="925560"/>
                <a:gridCol w="1398600"/>
                <a:gridCol w="1398600"/>
                <a:gridCol w="1398600"/>
                <a:gridCol w="1398600"/>
                <a:gridCol w="1252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Time (mi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Standing St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Wal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Jogg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Mid-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Sprin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0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10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20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30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40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50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60-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Schedule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981080"/>
          <a:ext cx="7772400" cy="4633920"/>
        </p:xfrm>
        <a:graphic>
          <a:graphicData uri="http://schemas.openxmlformats.org/drawingml/2006/table">
            <a:tbl>
              <a:tblPr/>
              <a:tblGrid>
                <a:gridCol w="923760"/>
                <a:gridCol w="1398600"/>
                <a:gridCol w="1398600"/>
                <a:gridCol w="1400400"/>
                <a:gridCol w="1398600"/>
                <a:gridCol w="1252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Time (mi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Standing St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Wal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Jogg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Mid-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Sprin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0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10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20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30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40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50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Comic Sans MS"/>
                          <a:ea typeface="Times New Roman"/>
                        </a:rPr>
                        <a:t>60-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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295280"/>
            <a:ext cx="8686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termin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Comic Sans MS"/>
              </a:rPr>
              <a:t>The desire to succe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58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1295280"/>
            <a:ext cx="86868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termination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mportant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tempting to win a 50:50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tempting to reach a ball that is running out of 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atigue sets in and you must continue to maintain a high level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58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95480"/>
            <a:ext cx="86868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otiv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omic Sans MS"/>
              </a:rPr>
              <a:t>What drives a performer to improve and succe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09-16T10:32:28Z</dcterms:modified>
  <cp:revision>19</cp:revision>
  <dc:subject/>
  <dc:title>Intermediate PE</dc:title>
</cp:coreProperties>
</file>